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F01-9D7F-49F8-9285-3006DAF0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DDC-749C-4DF7-9BDF-F9EB8D06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4C3-2495-453E-8F48-3E7F48C8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2C6-9195-4FC0-9E6E-CB871028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AE8-FD9C-40AE-BC73-97DB1DA0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150-8039-4556-AD9F-B9F11506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7C8-BDB3-4EB6-A08B-2249BCF1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E7C-43C7-44C9-9B47-211F9925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31A-89BD-4088-A81B-EF339E3F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CCA-BA3A-411C-AE01-B51C8F0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058-B1D8-4646-BC85-61B03F31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337-51DB-48AB-83BA-6DC7DB6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15B0-54F9-47FA-9ABC-2A04B0792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logs.phillymag.com/bridal_bulletin/files/2010/11/Greece-Mykonos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5238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3086280" cy="205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3352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876920" y="3581280"/>
            <a:ext cx="32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Go to fullsize image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71600" y="762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became independent in 18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30000" y="4320"/>
            <a:ext cx="607716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ed in Olympia, Greece in 776 B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ece’s capital city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etters make up the Greek alphab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ece’s national chee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urrency used in Gree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Greeks work in agricul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wo major geographic features shape Gree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slands are apart of Gree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religion do ninety-eight percent of Greeks belong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major holiday in Gree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80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rst Olym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066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1752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362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2971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733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in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4419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ntains and S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502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57150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k Orthodox Church ~ Christ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6477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228600"/>
            <a:ext cx="807696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905120"/>
            <a:ext cx="39625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ing countries are Albania, Macedonia, Bulgaria, Tur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ing bodies of water are Mediterranean Sea, Aegean Sea, Ionian Sea, Sea of 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p000082" descr="Greece"/>
          <p:cNvPicPr/>
          <p:nvPr/>
        </p:nvPicPr>
        <p:blipFill>
          <a:blip r:embed="rId1"/>
          <a:stretch/>
        </p:blipFill>
        <p:spPr>
          <a:xfrm>
            <a:off x="4038480" y="1066680"/>
            <a:ext cx="47815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609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is 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Athens skyline"/>
          <p:cNvPicPr/>
          <p:nvPr/>
        </p:nvPicPr>
        <p:blipFill>
          <a:blip r:embed="rId1"/>
          <a:stretch/>
        </p:blipFill>
        <p:spPr>
          <a:xfrm>
            <a:off x="762120" y="14479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291360" cy="4721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0348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54100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s cover most of Greece, land is rocky with little fertile soil, summers are hot and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Snow in Greece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857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 – ¾ of rain falls, mild and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er – hot, dry, very su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6296040" cy="4257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8080" y="685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is a seafaring country because you are never far from the sea, 1/5 of Greece is islands, land is not very good for f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57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ity-state is the city/town and the surrounding villages and farm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1629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928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k city-states were independent, small in size, quarreled among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33520"/>
            <a:ext cx="3809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cient Greek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a common language, religion,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zed their freedom and way of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ve thin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67280" y="2971800"/>
            <a:ext cx="50767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2:16:24Z</dcterms:created>
  <dc:creator>gehadde</dc:creator>
  <dc:description/>
  <dc:language>en-US</dc:language>
  <cp:lastModifiedBy>gehadde</cp:lastModifiedBy>
  <dcterms:modified xsi:type="dcterms:W3CDTF">2012-04-20T13:07:25Z</dcterms:modified>
  <cp:revision>22</cp:revision>
  <dc:subject/>
  <dc:title>WARM-UP:</dc:title>
</cp:coreProperties>
</file>